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E387-F346-4AAB-B8F4-4F350BDA1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33C4-5A3D-4E4F-934F-D64FD39A6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CB1C-0259-453E-8B74-A8C44834D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2AC7-4DC2-4AD2-BEAF-5C84BA312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93C1-FD06-45BF-9762-D1DFD16A1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9BEB-33BE-4590-9709-4EAC9AB1A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FA48-042B-4F55-B282-A491944DB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A55E-72CB-4AB0-814E-790B31B7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E435-7DAB-4CCF-AC90-84ECBE4ED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851A-276F-4705-AAF8-0E833680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DBFE-ADFA-4A58-B678-1A4AF6F3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4187-9381-4318-BCE4-735EECB8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8835D-CCA1-4608-8771-542B55AC92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304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.O angles qu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2666880"/>
            <a:ext cx="2362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 flipV="1">
            <a:off x="2819520" y="1447920"/>
            <a:ext cx="220968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6200" y="2133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09680" y="3657600"/>
            <a:ext cx="2286000" cy="13716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5181480"/>
            <a:ext cx="2286000" cy="1371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fl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5181480"/>
            <a:ext cx="2286000" cy="1371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724280" y="3657600"/>
            <a:ext cx="2286000" cy="13716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40384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81480" y="3962520"/>
            <a:ext cx="1752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t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33520" y="304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.O angles qu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5028840" y="1523880"/>
            <a:ext cx="160020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362320" y="2666880"/>
            <a:ext cx="266688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057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09680" y="3657600"/>
            <a:ext cx="2286000" cy="13716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09680" y="5181480"/>
            <a:ext cx="2286000" cy="1371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fl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5181480"/>
            <a:ext cx="2286000" cy="1371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724280" y="3657600"/>
            <a:ext cx="2286000" cy="13716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19520" y="40384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81480" y="3962520"/>
            <a:ext cx="1752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t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500"/>
                            </p:stCondLst>
                            <p:childTnLst>
                              <p:par>
                                <p:cTn id="4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2000"/>
                            </p:stCondLst>
                            <p:childTnLst>
                              <p:par>
                                <p:cTn id="4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500"/>
                            </p:stCondLst>
                            <p:childTnLst>
                              <p:par>
                                <p:cTn id="4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300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3500"/>
                            </p:stCondLst>
                            <p:childTnLst>
                              <p:par>
                                <p:cTn id="4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4000"/>
                            </p:stCondLst>
                            <p:childTnLst>
                              <p:par>
                                <p:cTn id="4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500"/>
                            </p:stCondLst>
                            <p:childTnLst>
                              <p:par>
                                <p:cTn id="4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33520" y="304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.O angles qu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666880" y="2666880"/>
            <a:ext cx="2362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2819520" y="1447920"/>
            <a:ext cx="220968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05520" y="2438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09680" y="3657600"/>
            <a:ext cx="2286000" cy="13716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09680" y="5181480"/>
            <a:ext cx="2286000" cy="1371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fl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724280" y="5181480"/>
            <a:ext cx="2286000" cy="1371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724280" y="3657600"/>
            <a:ext cx="2286000" cy="13716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19520" y="40384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81480" y="3962520"/>
            <a:ext cx="1752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t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20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2500"/>
                            </p:stCondLst>
                            <p:childTnLst>
                              <p:par>
                                <p:cTn id="4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3000"/>
                            </p:stCondLst>
                            <p:childTnLst>
                              <p:par>
                                <p:cTn id="4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3500"/>
                            </p:stCondLst>
                            <p:childTnLst>
                              <p:par>
                                <p:cTn id="4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4000"/>
                            </p:stCondLst>
                            <p:childTnLst>
                              <p:par>
                                <p:cTn id="4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45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533520" y="304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.O angles qu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19520" y="144792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2819520" y="1447920"/>
            <a:ext cx="220968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05320" y="1371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09680" y="3657600"/>
            <a:ext cx="2286000" cy="13716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09680" y="5181480"/>
            <a:ext cx="2286000" cy="1371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fl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5181480"/>
            <a:ext cx="2286000" cy="1371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724280" y="3657600"/>
            <a:ext cx="2286000" cy="13716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19520" y="40384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962520"/>
            <a:ext cx="1752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t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500"/>
                            </p:stCondLst>
                            <p:childTnLst>
                              <p:par>
                                <p:cTn id="4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000"/>
                            </p:stCondLst>
                            <p:childTnLst>
                              <p:par>
                                <p:cTn id="4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500"/>
                            </p:stCondLst>
                            <p:childTnLst>
                              <p:par>
                                <p:cTn id="4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3000"/>
                            </p:stCondLst>
                            <p:childTnLst>
                              <p:par>
                                <p:cTn id="5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3500"/>
                            </p:stCondLst>
                            <p:childTnLst>
                              <p:par>
                                <p:cTn id="5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4000"/>
                            </p:stCondLst>
                            <p:childTnLst>
                              <p:par>
                                <p:cTn id="5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4500"/>
                            </p:stCondLst>
                            <p:childTnLst>
                              <p:par>
                                <p:cTn id="5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533520" y="304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.O angles qu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144792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2819520" y="1447920"/>
            <a:ext cx="220968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38280" y="10666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09680" y="3657600"/>
            <a:ext cx="2286000" cy="13716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09680" y="5181480"/>
            <a:ext cx="2286000" cy="1371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fl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24280" y="5181480"/>
            <a:ext cx="2286000" cy="1371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724280" y="3657600"/>
            <a:ext cx="2286000" cy="13716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819520" y="40384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81480" y="3962520"/>
            <a:ext cx="1752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t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000"/>
                            </p:stCondLst>
                            <p:childTnLst>
                              <p:par>
                                <p:cTn id="5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2000"/>
                            </p:stCondLst>
                            <p:childTnLst>
                              <p:par>
                                <p:cTn id="5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2500"/>
                            </p:stCondLst>
                            <p:childTnLst>
                              <p:par>
                                <p:cTn id="5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3000"/>
                            </p:stCondLst>
                            <p:childTnLst>
                              <p:par>
                                <p:cTn id="5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3500"/>
                            </p:stCondLst>
                            <p:childTnLst>
                              <p:par>
                                <p:cTn id="5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4500"/>
                            </p:stCondLst>
                            <p:childTnLst>
                              <p:par>
                                <p:cTn id="5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533520" y="304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.O angles qu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743200" y="1828800"/>
            <a:ext cx="2362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5105520" y="1828440"/>
            <a:ext cx="220968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724280" y="1981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09680" y="3657600"/>
            <a:ext cx="2286000" cy="13716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09680" y="5181480"/>
            <a:ext cx="2286000" cy="1371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fl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5181480"/>
            <a:ext cx="2286000" cy="1371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724280" y="3657600"/>
            <a:ext cx="2286000" cy="13716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40384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181480" y="3962520"/>
            <a:ext cx="1752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t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000"/>
                            </p:stCondLst>
                            <p:childTnLst>
                              <p:par>
                                <p:cTn id="5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500"/>
                            </p:stCondLst>
                            <p:childTnLst>
                              <p:par>
                                <p:cTn id="5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20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250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3500"/>
                            </p:stCondLst>
                            <p:childTnLst>
                              <p:par>
                                <p:cTn id="5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4000"/>
                            </p:stCondLst>
                            <p:childTnLst>
                              <p:par>
                                <p:cTn id="5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4500"/>
                            </p:stCondLst>
                            <p:childTnLst>
                              <p:par>
                                <p:cTn id="6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533520" y="304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.O angles qu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4038480" y="1600200"/>
            <a:ext cx="106704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5105520" y="1599840"/>
            <a:ext cx="220968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18288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09680" y="3657600"/>
            <a:ext cx="2286000" cy="13716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09680" y="5181480"/>
            <a:ext cx="2286000" cy="1371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fl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724280" y="5181480"/>
            <a:ext cx="2286000" cy="1371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724280" y="3657600"/>
            <a:ext cx="2286000" cy="13716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19520" y="40384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181480" y="3962520"/>
            <a:ext cx="1752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t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500"/>
                            </p:stCondLst>
                            <p:childTnLst>
                              <p:par>
                                <p:cTn id="6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1000"/>
                            </p:stCondLst>
                            <p:childTnLst>
                              <p:par>
                                <p:cTn id="6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500"/>
                            </p:stCondLst>
                            <p:childTnLst>
                              <p:par>
                                <p:cTn id="6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2000"/>
                            </p:stCondLst>
                            <p:childTnLst>
                              <p:par>
                                <p:cTn id="6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2500"/>
                            </p:stCondLst>
                            <p:childTnLst>
                              <p:par>
                                <p:cTn id="6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3000"/>
                            </p:stCondLst>
                            <p:childTnLst>
                              <p:par>
                                <p:cTn id="6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3500"/>
                            </p:stCondLst>
                            <p:childTnLst>
                              <p:par>
                                <p:cTn id="6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4000"/>
                            </p:stCondLst>
                            <p:childTnLst>
                              <p:par>
                                <p:cTn id="6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4500"/>
                            </p:stCondLst>
                            <p:childTnLst>
                              <p:par>
                                <p:cTn id="6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304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.O angles qu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66880" y="2666880"/>
            <a:ext cx="2362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029200" y="990720"/>
            <a:ext cx="990720" cy="1676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2057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09680" y="3657600"/>
            <a:ext cx="2286000" cy="13716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09680" y="5181480"/>
            <a:ext cx="2286000" cy="1371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fl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5181480"/>
            <a:ext cx="2286000" cy="1371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724280" y="3657600"/>
            <a:ext cx="2286000" cy="13716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40384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81480" y="3962520"/>
            <a:ext cx="1752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t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5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5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3520" y="304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.O angles qu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029200" y="1981080"/>
            <a:ext cx="17524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2819520" y="1447920"/>
            <a:ext cx="220968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76920" y="2133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09680" y="3657600"/>
            <a:ext cx="2286000" cy="13716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09680" y="5181480"/>
            <a:ext cx="2286000" cy="1371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fl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24280" y="5181480"/>
            <a:ext cx="2286000" cy="1371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24280" y="3657600"/>
            <a:ext cx="2286000" cy="13716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19520" y="40384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81480" y="3962520"/>
            <a:ext cx="1752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t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5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45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33520" y="304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.O angles qu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86200" y="1219320"/>
            <a:ext cx="2362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3885840" y="1218960"/>
            <a:ext cx="114300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91120" y="1219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09680" y="3657600"/>
            <a:ext cx="2286000" cy="13716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09680" y="5181480"/>
            <a:ext cx="2286000" cy="1371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fl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24280" y="5181480"/>
            <a:ext cx="2286000" cy="1371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24280" y="3657600"/>
            <a:ext cx="2286000" cy="13716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19520" y="40384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81480" y="3962520"/>
            <a:ext cx="1752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t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5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33520" y="304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.O angles qu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666880" y="2666880"/>
            <a:ext cx="2362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029200" y="2666880"/>
            <a:ext cx="198108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952880" y="1981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09680" y="3657600"/>
            <a:ext cx="2286000" cy="13716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09680" y="5181480"/>
            <a:ext cx="2286000" cy="1371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fl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24280" y="5181480"/>
            <a:ext cx="2286000" cy="1371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24280" y="3657600"/>
            <a:ext cx="2286000" cy="13716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19520" y="40384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962520"/>
            <a:ext cx="1752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t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5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5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45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33520" y="304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.O angles qu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028840" y="1066680"/>
            <a:ext cx="114300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2819520" y="1447920"/>
            <a:ext cx="220968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1752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657600"/>
            <a:ext cx="2286000" cy="13716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09680" y="5181480"/>
            <a:ext cx="2286000" cy="1371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fl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24280" y="5181480"/>
            <a:ext cx="2286000" cy="1371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24280" y="3657600"/>
            <a:ext cx="2286000" cy="13716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19520" y="40384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3962520"/>
            <a:ext cx="1752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t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5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5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45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3520" y="304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.O angles qu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95680" y="1447920"/>
            <a:ext cx="0" cy="1676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3200400" y="1447560"/>
            <a:ext cx="129528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38480" y="1752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09680" y="3657600"/>
            <a:ext cx="2286000" cy="13716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09680" y="5181480"/>
            <a:ext cx="2286000" cy="1371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fl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724280" y="5181480"/>
            <a:ext cx="2286000" cy="1371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3657600"/>
            <a:ext cx="2286000" cy="13716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19520" y="40384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81480" y="3962520"/>
            <a:ext cx="1752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t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50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0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5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4000"/>
                            </p:stCondLst>
                            <p:childTnLst>
                              <p:par>
                                <p:cTn id="2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4500"/>
                            </p:stCondLst>
                            <p:childTnLst>
                              <p:par>
                                <p:cTn id="2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33520" y="304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.O angles qu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762120"/>
            <a:ext cx="182880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2819520" y="1447920"/>
            <a:ext cx="220968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81280" y="14479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09680" y="3657600"/>
            <a:ext cx="2286000" cy="13716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09680" y="5181480"/>
            <a:ext cx="2286000" cy="1371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fl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5181480"/>
            <a:ext cx="2286000" cy="1371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24280" y="3657600"/>
            <a:ext cx="2286000" cy="13716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19520" y="40384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81480" y="3962520"/>
            <a:ext cx="1752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t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50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3500"/>
                            </p:stCondLst>
                            <p:childTnLst>
                              <p:par>
                                <p:cTn id="3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4500"/>
                            </p:stCondLst>
                            <p:childTnLst>
                              <p:par>
                                <p:cTn id="3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33520" y="304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.O angles qu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657600" y="990720"/>
            <a:ext cx="2362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657600" y="990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09880" y="10666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09680" y="3657600"/>
            <a:ext cx="2286000" cy="13716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09680" y="5181480"/>
            <a:ext cx="2286000" cy="1371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fl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24280" y="5181480"/>
            <a:ext cx="2286000" cy="1371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24280" y="3657600"/>
            <a:ext cx="2286000" cy="13716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19520" y="40384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81480" y="3962520"/>
            <a:ext cx="1752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t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35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4000"/>
                            </p:stCondLst>
                            <p:childTnLst>
                              <p:par>
                                <p:cTn id="3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450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22:43:20Z</dcterms:created>
  <dc:creator>Laptops for Teachers</dc:creator>
  <dc:description/>
  <dc:language>en-US</dc:language>
  <cp:lastModifiedBy>Pitchford</cp:lastModifiedBy>
  <dcterms:modified xsi:type="dcterms:W3CDTF">2005-09-19T12:42:29Z</dcterms:modified>
  <cp:revision>5</cp:revision>
  <dc:subject/>
  <dc:title>PowerPoint Presentation</dc:title>
</cp:coreProperties>
</file>